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7.jpeg" ContentType="image/jpeg"/>
  <Override PartName="/ppt/media/image26.jpeg" ContentType="image/jpeg"/>
  <Override PartName="/ppt/media/image22.jpeg" ContentType="image/jpeg"/>
  <Override PartName="/ppt/media/image21.jpeg" ContentType="image/jpeg"/>
  <Override PartName="/ppt/media/image29.png" ContentType="image/png"/>
  <Override PartName="/ppt/media/image6.png" ContentType="image/png"/>
  <Override PartName="/ppt/media/image11.jpeg" ContentType="image/jpeg"/>
  <Override PartName="/ppt/media/image9.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18.gif" ContentType="image/gif"/>
  <Override PartName="/ppt/media/image13.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4.jpeg" ContentType="image/jpeg"/>
  <Override PartName="/ppt/media/image34.jpeg" ContentType="image/jpeg"/>
  <Override PartName="/ppt/media/image14.jpeg" ContentType="image/jpeg"/>
  <Override PartName="/ppt/media/image8.png" ContentType="image/png"/>
  <Override PartName="/ppt/media/image5.pct" ContentType="image/x-pict"/>
  <Override PartName="/ppt/media/image2.jpeg" ContentType="image/jpeg"/>
  <Override PartName="/ppt/media/image12.png" ContentType="image/png"/>
  <Override PartName="/ppt/media/image23.jpeg" ContentType="image/jpeg"/>
  <Override PartName="/ppt/media/image25.jpeg" ContentType="image/jpeg"/>
  <Override PartName="/ppt/media/image32.png" ContentType="image/png"/>
  <Override PartName="/ppt/media/image1.png" ContentType="image/png"/>
  <Override PartName="/ppt/media/image16.jpeg" ContentType="image/jpeg"/>
  <Override PartName="/ppt/media/image17.jpeg" ContentType="image/jpe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EA61B-A23E-435D-97FA-50282AD78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1DFA8-B772-4BFB-8422-CEDAC64D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8F7BA-1124-4712-B327-F156D5786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630E5-3907-4265-B000-DCCC05F3C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3313C-5970-48F1-9D7D-AD2E4F82B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42FC0-112F-41C7-B04E-92343D814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F0D9-DD47-403B-8364-3BBE1F6F0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8DE1F-CFFC-437E-9294-EEB281AD4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7062C-6068-4872-ACD4-1996E11A4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62829-6BEE-4E5C-BEC8-DE24C9AB0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8A005-08A7-466E-810A-02AB73765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C6C2-C65D-4C09-9939-9A98C193F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33573-7146-480A-801E-2208335A1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DF976-76CD-4FEB-B8F2-314456428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51B1-76CF-4A08-B39A-F58EEE983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FAA16-C2D5-4E39-909D-A5A7FFC31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48971-0DF1-4656-A5BD-2888698F8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4375-129D-4E65-8DE9-875A7EF5B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D073F-7666-48EA-98E2-A2069C3D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4759F-8FC9-411D-B411-2D426C9C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138B5-4A8F-46B0-AEA6-8697D2B8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19F2-7FB7-4BF7-AD22-A3DF9DF0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7F96-DCE7-4022-B721-BD523821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C403-A3F5-4934-8D24-50DEA1955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8DF0-14A9-46B1-A4F9-9367384CC05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1A61-E930-4F03-BD08-2060618BCCD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r.wikipedia.org/wiki/Feu" TargetMode="External"/><Relationship Id="rId2" Type="http://schemas.openxmlformats.org/officeDocument/2006/relationships/hyperlink" Target="http://fr.wikipedia.org/wiki/Saint_Jean-Baptiste" TargetMode="External"/><Relationship Id="rId3" Type="http://schemas.openxmlformats.org/officeDocument/2006/relationships/hyperlink" Target="http://fr.wikipedia.org/wiki/24_juin" TargetMode="External"/><Relationship Id="rId4" Type="http://schemas.openxmlformats.org/officeDocument/2006/relationships/hyperlink" Target="http://fr.wikipedia.org/wiki/Solstice_d%27&#233;t&#233;" TargetMode="External"/><Relationship Id="rId5" Type="http://schemas.openxmlformats.org/officeDocument/2006/relationships/hyperlink" Target="http://upload.wikimedia.org/wikipedia/commons/6/6e/Midsommardans_av_Anders_Zorn_1897.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dmoz.org/World/Fran&#231;ais/R&#233;gional/Europe/France/" TargetMode="External"/><Relationship Id="rId2" Type="http://schemas.openxmlformats.org/officeDocument/2006/relationships/hyperlink" Target="http://dmoz.org/World/Fran&#231;ais/Soci&#233;t&#233;/F&#234;tes_et_jours_f&#233;ri&#233;s/" TargetMode="External"/><Relationship Id="rId3" Type="http://schemas.openxmlformats.org/officeDocument/2006/relationships/hyperlink" Target="http://dmoz.org/World/Fran&#231;ais/Sciences/Sciences_humaines_et_sociales/Histoire/Ev&#233;nementielle/" TargetMode="External"/><Relationship Id="rId4" Type="http://schemas.openxmlformats.org/officeDocument/2006/relationships/hyperlink" Target="http://dmoz.org/World/Fran&#231;ais/R&#233;gional/Europe/France/Soci&#233;t&#233;/Histoire/" TargetMode="External"/><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fr.wikipedia.org/wiki/31_octobre" TargetMode="External"/><Relationship Id="rId2" Type="http://schemas.openxmlformats.org/officeDocument/2006/relationships/hyperlink" Target="http://fr.wikipedia.org/wiki/1er_novembre" TargetMode="External"/><Relationship Id="rId3" Type="http://schemas.openxmlformats.org/officeDocument/2006/relationships/hyperlink" Target="http://fr.wikipedia.org/wiki/Bonbon"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fr.wikipedia.org/wiki/Coran" TargetMode="External"/><Relationship Id="rId2" Type="http://schemas.openxmlformats.org/officeDocument/2006/relationships/hyperlink" Target="http://fr.wikipedia.org/wiki/Mahomet" TargetMode="External"/><Relationship Id="rId3" Type="http://schemas.openxmlformats.org/officeDocument/2006/relationships/hyperlink" Target="http://fr.wikipedia.org/wiki/Je&#251;ne" TargetMode="External"/><Relationship Id="rId4" Type="http://schemas.openxmlformats.org/officeDocument/2006/relationships/hyperlink" Target="http://fr.wikipedia.org/wiki/Jour_f&#233;ri&#233;"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fr.wikipedia.org/wiki/25_d&#233;cembre" TargetMode="External"/><Relationship Id="rId2" Type="http://schemas.openxmlformats.org/officeDocument/2006/relationships/hyperlink" Target="http://fr.wikipedia.org/wiki/7_janvier" TargetMode="External"/><Relationship Id="rId3" Type="http://schemas.openxmlformats.org/officeDocument/2006/relationships/hyperlink" Target="http://fr.wikipedia.org/wiki/Naissance" TargetMode="External"/><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r.wikipedia.org/wiki/F&#234;te" TargetMode="External"/><Relationship Id="rId2" Type="http://schemas.openxmlformats.org/officeDocument/2006/relationships/hyperlink" Target="http://fr.wikipedia.org/wiki/Souhait" TargetMode="External"/><Relationship Id="rId3" Type="http://schemas.openxmlformats.org/officeDocument/2006/relationships/hyperlink" Target="http://fr.wikipedia.org/wiki/Trait&#233;_%28droit%29"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r.wikipedia.org/wiki/Calendrier"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r.wikipedia.org/wiki/Guerre" TargetMode="External"/><Relationship Id="rId2" Type="http://schemas.openxmlformats.org/officeDocument/2006/relationships/hyperlink" Target="http://fr.wikipedia.org/wiki/F&#234;te_nationale" TargetMode="External"/><Relationship Id="rId3" Type="http://schemas.openxmlformats.org/officeDocument/2006/relationships/hyperlink" Target="http://fr.wikipedia.org/wiki/Calendrier_chinois" TargetMode="External"/><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fr.wikipedia.org/wiki/Chr&#233;tienne" TargetMode="External"/><Relationship Id="rId2" Type="http://schemas.openxmlformats.org/officeDocument/2006/relationships/hyperlink" Target="http://fr.wikipedia.org/wiki/6_janvier"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r.wikipedia.org/wiki/2_f&#233;vrier" TargetMode="External"/><Relationship Id="rId2" Type="http://schemas.openxmlformats.org/officeDocument/2006/relationships/oleObject" Target="../embeddings/oleObject1.bin"/><Relationship Id="rId3" Type="http://schemas.openxmlformats.org/officeDocument/2006/relationships/image" Target="../media/image5.pct"/><Relationship Id="rId4" Type="http://schemas.openxmlformats.org/officeDocument/2006/relationships/hyperlink" Target="http://www.petitweb.lu/textespetitsclics/carnaval/coloriages/chandeleur1blc.gif" TargetMode="External"/><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hyperlink" Target="http://fr.wikipedia.org/wiki/14_f&#233;vrier" TargetMode="External"/><Relationship Id="rId2" Type="http://schemas.openxmlformats.org/officeDocument/2006/relationships/hyperlink" Target="http://fr.wikipedia.org/wiki/Passion" TargetMode="External"/><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hyperlink" Target="http://fr.wikipedia.org/wiki/F&#234;te" TargetMode="External"/><Relationship Id="rId2" Type="http://schemas.openxmlformats.org/officeDocument/2006/relationships/hyperlink" Target="http://fr.wikipedia.org/wiki/Catholique" TargetMode="External"/><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r.wikipedia.org/wiki/Canular" TargetMode="External"/><Relationship Id="rId2" Type="http://schemas.openxmlformats.org/officeDocument/2006/relationships/hyperlink" Target="http://fr.wikipedia.org/wiki/1er_avril"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r.wikipedia.org/wiki/1er_mai" TargetMode="External"/><Relationship Id="rId2" Type="http://schemas.openxmlformats.org/officeDocument/2006/relationships/hyperlink" Target="http://fr.wikipedia.org/wiki/Mouvement_ouvrier" TargetMode="External"/><Relationship Id="rId3" Type="http://schemas.openxmlformats.org/officeDocument/2006/relationships/hyperlink" Target="http://fr.wikipedia.org/wiki/Socialiste" TargetMode="External"/><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74680"/>
            <a:ext cx="8458200" cy="5516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Maiandra GD"/>
              </a:rPr>
              <a:t>Les fêtes</a:t>
            </a:r>
            <a:r>
              <a:rPr b="1" lang="en-US" sz="7200" spc="-1" strike="noStrike">
                <a:solidFill>
                  <a:srgbClr val="000000"/>
                </a:solidFill>
                <a:latin typeface="Maiandra GD"/>
              </a:rPr>
              <a:t> </a:t>
            </a:r>
            <a:r>
              <a:rPr b="1" lang="en-US" sz="7200" spc="-1" strike="noStrike">
                <a:solidFill>
                  <a:srgbClr val="006600"/>
                </a:solidFill>
                <a:latin typeface="Maiandra GD"/>
              </a:rPr>
              <a:t>Francophones !!!</a:t>
            </a:r>
            <a:endParaRPr b="0"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iandra GD"/>
              </a:rPr>
              <a:t>La Fête des Mèr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Maiandra GD"/>
              </a:rPr>
              <a:t>Le dernier dimanche de Mai, c'est la fête des mères : une journée pour mettre ta Maman à l'honneur et la remercier d'être là, tout simplement.</a:t>
            </a: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5" name="" descr="fête des mères"/>
          <p:cNvPicPr/>
          <p:nvPr/>
        </p:nvPicPr>
        <p:blipFill>
          <a:blip r:embed="rId1"/>
          <a:stretch/>
        </p:blipFill>
        <p:spPr>
          <a:xfrm>
            <a:off x="1665360" y="2233440"/>
            <a:ext cx="2201760" cy="258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a Fête des Pères</a:t>
            </a:r>
            <a:br>
              <a:rPr sz="4000"/>
            </a:br>
            <a:endParaRPr b="0" lang="en-US" sz="4000" spc="-1" strike="noStrike">
              <a:solidFill>
                <a:srgbClr val="ffffff"/>
              </a:solidFill>
              <a:latin typeface="Times New Roman"/>
            </a:endParaRPr>
          </a:p>
        </p:txBody>
      </p:sp>
      <p:sp>
        <p:nvSpPr>
          <p:cNvPr id="127"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aiandra GD"/>
              </a:rPr>
              <a:t>Le troisième dimanche du mois de juin, c'est la fête des pères : une journée où tous les papas sont rois !</a:t>
            </a:r>
            <a:endParaRPr b="0" lang="en-US" sz="2700" spc="-1" strike="noStrike">
              <a:solidFill>
                <a:srgbClr val="ffffff"/>
              </a:solidFill>
              <a:latin typeface="Arial"/>
            </a:endParaRPr>
          </a:p>
        </p:txBody>
      </p:sp>
      <p:pic>
        <p:nvPicPr>
          <p:cNvPr id="128" name="" descr=""/>
          <p:cNvPicPr/>
          <p:nvPr/>
        </p:nvPicPr>
        <p:blipFill>
          <a:blip r:embed="rId1"/>
          <a:stretch/>
        </p:blipFill>
        <p:spPr>
          <a:xfrm>
            <a:off x="6172200" y="1752480"/>
            <a:ext cx="1428840" cy="1590840"/>
          </a:xfrm>
          <a:prstGeom prst="rect">
            <a:avLst/>
          </a:prstGeom>
          <a:ln w="0">
            <a:noFill/>
          </a:ln>
        </p:spPr>
      </p:pic>
      <p:pic>
        <p:nvPicPr>
          <p:cNvPr id="129" name="" descr=""/>
          <p:cNvPicPr/>
          <p:nvPr/>
        </p:nvPicPr>
        <p:blipFill>
          <a:blip r:embed="rId2"/>
          <a:stretch/>
        </p:blipFill>
        <p:spPr>
          <a:xfrm>
            <a:off x="5791320" y="3581280"/>
            <a:ext cx="2124000" cy="2295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de la Saint-Jean</a:t>
            </a:r>
            <a:br>
              <a:rPr sz="4000"/>
            </a:br>
            <a:endParaRPr b="0" lang="en-US" sz="4000" spc="-1" strike="noStrike">
              <a:solidFill>
                <a:srgbClr val="ffffff"/>
              </a:solidFill>
              <a:latin typeface="Times New Roman"/>
            </a:endParaRPr>
          </a:p>
        </p:txBody>
      </p:sp>
      <p:sp>
        <p:nvSpPr>
          <p:cNvPr id="131"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a </a:t>
            </a:r>
            <a:r>
              <a:rPr b="1" lang="fr-FR" sz="2700" spc="-1" strike="noStrike">
                <a:solidFill>
                  <a:srgbClr val="ffffff"/>
                </a:solidFill>
                <a:latin typeface="Maiandra GD"/>
              </a:rPr>
              <a:t>Fête de la Saint-Jean</a:t>
            </a:r>
            <a:r>
              <a:rPr b="0" lang="fr-FR" sz="2700" spc="-1" strike="noStrike">
                <a:solidFill>
                  <a:srgbClr val="ffffff"/>
                </a:solidFill>
                <a:latin typeface="Maiandra GD"/>
              </a:rPr>
              <a:t>, traditonnellement accompagnée de grands </a:t>
            </a:r>
            <a:r>
              <a:rPr b="0" lang="fr-FR" sz="2700" spc="-1" strike="noStrike" u="sng">
                <a:solidFill>
                  <a:srgbClr val="999900"/>
                </a:solidFill>
                <a:uFillTx/>
                <a:latin typeface="Maiandra GD"/>
                <a:hlinkClick r:id="rId1"/>
              </a:rPr>
              <a:t>feux</a:t>
            </a:r>
            <a:r>
              <a:rPr b="0" lang="fr-FR" sz="2700" spc="-1" strike="noStrike">
                <a:solidFill>
                  <a:srgbClr val="ffffff"/>
                </a:solidFill>
                <a:latin typeface="Maiandra GD"/>
              </a:rPr>
              <a:t>, est la fête catholique de </a:t>
            </a:r>
            <a:r>
              <a:rPr b="0" lang="fr-FR" sz="2700" spc="-1" strike="noStrike" u="sng">
                <a:solidFill>
                  <a:srgbClr val="999900"/>
                </a:solidFill>
                <a:uFillTx/>
                <a:latin typeface="Maiandra GD"/>
                <a:hlinkClick r:id="rId2"/>
              </a:rPr>
              <a:t>saint Jean-Baptiste</a:t>
            </a:r>
            <a:r>
              <a:rPr b="0" lang="fr-FR" sz="2700" spc="-1" strike="noStrike">
                <a:solidFill>
                  <a:srgbClr val="ffffff"/>
                </a:solidFill>
                <a:latin typeface="Maiandra GD"/>
              </a:rPr>
              <a:t>. Elle a lieu le </a:t>
            </a:r>
            <a:r>
              <a:rPr b="0" lang="fr-FR" sz="2700" spc="-1" strike="noStrike" u="sng">
                <a:solidFill>
                  <a:srgbClr val="999900"/>
                </a:solidFill>
                <a:uFillTx/>
                <a:latin typeface="Maiandra GD"/>
                <a:hlinkClick r:id="rId3"/>
              </a:rPr>
              <a:t>24 juin</a:t>
            </a:r>
            <a:r>
              <a:rPr b="0" lang="fr-FR" sz="2700" spc="-1" strike="noStrike">
                <a:solidFill>
                  <a:srgbClr val="ffffff"/>
                </a:solidFill>
                <a:latin typeface="Maiandra GD"/>
              </a:rPr>
              <a:t>, date symbolique du </a:t>
            </a:r>
            <a:r>
              <a:rPr b="0" lang="fr-FR" sz="2700" spc="-1" strike="noStrike" u="sng">
                <a:solidFill>
                  <a:srgbClr val="999900"/>
                </a:solidFill>
                <a:uFillTx/>
                <a:latin typeface="Maiandra GD"/>
                <a:hlinkClick r:id="rId4"/>
              </a:rPr>
              <a:t>solstice d'été</a:t>
            </a:r>
            <a:r>
              <a:rPr b="0" lang="fr-FR" sz="2700" spc="-1" strike="noStrike">
                <a:solidFill>
                  <a:srgbClr val="ffffff"/>
                </a:solidFill>
                <a:latin typeface="Maiandra GD"/>
              </a:rPr>
              <a:t>.</a:t>
            </a:r>
            <a:endParaRPr b="0" lang="en-US" sz="2700" spc="-1" strike="noStrike">
              <a:solidFill>
                <a:srgbClr val="ffffff"/>
              </a:solidFill>
              <a:latin typeface="Arial"/>
            </a:endParaRPr>
          </a:p>
        </p:txBody>
      </p:sp>
      <p:pic>
        <p:nvPicPr>
          <p:cNvPr id="132" name="" descr="">
            <a:hlinkClick r:id="rId5"/>
          </p:cNvPr>
          <p:cNvPicPr/>
          <p:nvPr/>
        </p:nvPicPr>
        <p:blipFill>
          <a:blip r:embed="rId6"/>
          <a:stretch/>
        </p:blipFill>
        <p:spPr>
          <a:xfrm>
            <a:off x="5440320" y="2233440"/>
            <a:ext cx="2409840" cy="285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nationale</a:t>
            </a:r>
            <a:br>
              <a:rPr sz="4000"/>
            </a:br>
            <a:endParaRPr b="0" lang="en-US" sz="4000" spc="-1" strike="noStrike">
              <a:solidFill>
                <a:srgbClr val="ffffff"/>
              </a:solidFill>
              <a:latin typeface="Times New Roman"/>
            </a:endParaRPr>
          </a:p>
        </p:txBody>
      </p:sp>
      <p:sp>
        <p:nvSpPr>
          <p:cNvPr id="134"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a </a:t>
            </a:r>
            <a:r>
              <a:rPr b="0" lang="fr-FR" sz="2300" spc="-1" strike="noStrike" u="sng">
                <a:solidFill>
                  <a:srgbClr val="999900"/>
                </a:solidFill>
                <a:uFillTx/>
                <a:latin typeface="Maiandra GD"/>
                <a:hlinkClick r:id="rId1"/>
              </a:rPr>
              <a:t>France</a:t>
            </a:r>
            <a:r>
              <a:rPr b="0" lang="fr-FR" sz="2300" spc="-1" strike="noStrike">
                <a:solidFill>
                  <a:srgbClr val="ffffff"/>
                </a:solidFill>
                <a:latin typeface="Maiandra GD"/>
              </a:rPr>
              <a:t> s'apprête, ce 14 juillet, à célébrer sa </a:t>
            </a:r>
            <a:r>
              <a:rPr b="0" lang="fr-FR" sz="2300" spc="-1" strike="noStrike" u="sng">
                <a:solidFill>
                  <a:srgbClr val="999900"/>
                </a:solidFill>
                <a:uFillTx/>
                <a:latin typeface="Maiandra GD"/>
                <a:hlinkClick r:id="rId2"/>
              </a:rPr>
              <a:t>fête nationale</a:t>
            </a:r>
            <a:r>
              <a:rPr b="0" lang="fr-FR" sz="2300" spc="-1" strike="noStrike">
                <a:solidFill>
                  <a:srgbClr val="ffffff"/>
                </a:solidFill>
                <a:latin typeface="Maiandra GD"/>
              </a:rPr>
              <a:t>, en souvenir de la prise de la Bastille, le 14 juillet 1789, un </a:t>
            </a:r>
            <a:r>
              <a:rPr b="0" lang="fr-FR" sz="2300" spc="-1" strike="noStrike" u="sng">
                <a:solidFill>
                  <a:srgbClr val="999900"/>
                </a:solidFill>
                <a:uFillTx/>
                <a:latin typeface="Maiandra GD"/>
                <a:hlinkClick r:id="rId3"/>
              </a:rPr>
              <a:t>évènement</a:t>
            </a:r>
            <a:r>
              <a:rPr b="0" lang="fr-FR" sz="2300" spc="-1" strike="noStrike">
                <a:solidFill>
                  <a:srgbClr val="ffffff"/>
                </a:solidFill>
                <a:latin typeface="Maiandra GD"/>
              </a:rPr>
              <a:t> considéré par certains comme le début de la révolution, une période importante de l'</a:t>
            </a:r>
            <a:r>
              <a:rPr b="0" lang="fr-FR" sz="2300" spc="-1" strike="noStrike" u="sng">
                <a:solidFill>
                  <a:srgbClr val="999900"/>
                </a:solidFill>
                <a:uFillTx/>
                <a:latin typeface="Maiandra GD"/>
                <a:hlinkClick r:id="rId4"/>
              </a:rPr>
              <a:t>histoire de ce pays</a:t>
            </a:r>
            <a:r>
              <a:rPr b="0" lang="fr-FR" sz="2300" spc="-1" strike="noStrike">
                <a:solidFill>
                  <a:srgbClr val="ffffff"/>
                </a:solidFill>
                <a:latin typeface="Maiandra GD"/>
              </a:rPr>
              <a:t>.</a:t>
            </a:r>
            <a:endParaRPr b="0" lang="en-US" sz="2300" spc="-1" strike="noStrike">
              <a:solidFill>
                <a:srgbClr val="ffffff"/>
              </a:solidFill>
              <a:latin typeface="Arial"/>
            </a:endParaRPr>
          </a:p>
        </p:txBody>
      </p:sp>
      <p:pic>
        <p:nvPicPr>
          <p:cNvPr id="135" name="" descr=""/>
          <p:cNvPicPr/>
          <p:nvPr/>
        </p:nvPicPr>
        <p:blipFill>
          <a:blip r:embed="rId5"/>
          <a:stretch/>
        </p:blipFill>
        <p:spPr>
          <a:xfrm>
            <a:off x="5127480" y="1828800"/>
            <a:ext cx="3119760" cy="4038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Halloween</a:t>
            </a:r>
            <a:endParaRPr b="0" lang="en-US" sz="4400" spc="-1" strike="noStrike">
              <a:solidFill>
                <a:srgbClr val="ffffff"/>
              </a:solidFill>
              <a:latin typeface="Times New Roman"/>
            </a:endParaRPr>
          </a:p>
        </p:txBody>
      </p:sp>
      <p:sp>
        <p:nvSpPr>
          <p:cNvPr id="137"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7000"/>
          </a:bodyPr>
          <a:p>
            <a:pPr marL="332640" indent="-33264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Halloween</a:t>
            </a:r>
            <a:r>
              <a:rPr b="0" lang="fr-FR" sz="2300" spc="-1" strike="noStrike">
                <a:solidFill>
                  <a:srgbClr val="ffffff"/>
                </a:solidFill>
                <a:latin typeface="Maiandra GD"/>
              </a:rPr>
              <a:t> est une fête qui se déroule dans la nuit du </a:t>
            </a:r>
            <a:r>
              <a:rPr b="0" lang="fr-FR" sz="2300" spc="-1" strike="noStrike" u="sng">
                <a:solidFill>
                  <a:srgbClr val="999900"/>
                </a:solidFill>
                <a:uFillTx/>
                <a:latin typeface="Maiandra GD"/>
                <a:hlinkClick r:id="rId1"/>
              </a:rPr>
              <a:t>31 octobre</a:t>
            </a:r>
            <a:r>
              <a:rPr b="0" lang="fr-FR" sz="2300" spc="-1" strike="noStrike">
                <a:solidFill>
                  <a:srgbClr val="ffffff"/>
                </a:solidFill>
                <a:latin typeface="Maiandra GD"/>
              </a:rPr>
              <a:t> au </a:t>
            </a:r>
            <a:r>
              <a:rPr b="0" lang="fr-FR" sz="2300" spc="-1" strike="noStrike" u="sng">
                <a:solidFill>
                  <a:srgbClr val="999900"/>
                </a:solidFill>
                <a:uFillTx/>
                <a:latin typeface="Maiandra GD"/>
                <a:hlinkClick r:id="rId2"/>
              </a:rPr>
              <a:t>1er novembre</a:t>
            </a:r>
            <a:r>
              <a:rPr b="0" lang="fr-FR" sz="2300" spc="-1" strike="noStrike">
                <a:solidFill>
                  <a:srgbClr val="ffffff"/>
                </a:solidFill>
                <a:latin typeface="Maiandra GD"/>
              </a:rPr>
              <a:t>. La tradition veut que les enfants se déguisent avec des costumes qui font peur et aillent sonner aux portes en demandant des </a:t>
            </a:r>
            <a:r>
              <a:rPr b="0" lang="fr-FR" sz="2300" spc="-1" strike="noStrike" u="sng">
                <a:solidFill>
                  <a:srgbClr val="999900"/>
                </a:solidFill>
                <a:uFillTx/>
                <a:latin typeface="Maiandra GD"/>
                <a:hlinkClick r:id="rId3"/>
              </a:rPr>
              <a:t>bonbons</a:t>
            </a:r>
            <a:r>
              <a:rPr b="0" lang="fr-FR" sz="2300" spc="-1" strike="noStrike">
                <a:solidFill>
                  <a:srgbClr val="ffffff"/>
                </a:solidFill>
                <a:latin typeface="Maiandra GD"/>
              </a:rPr>
              <a:t> en disant, dans les pays anglophones, « Trick or treat ! » (« Des friandises ou un mauvais tour ! »)</a:t>
            </a:r>
            <a:endParaRPr b="0" lang="en-US" sz="2300" spc="-1" strike="noStrike">
              <a:solidFill>
                <a:srgbClr val="ffffff"/>
              </a:solidFill>
              <a:latin typeface="Arial"/>
            </a:endParaRPr>
          </a:p>
        </p:txBody>
      </p:sp>
      <p:pic>
        <p:nvPicPr>
          <p:cNvPr id="138" name="" descr=""/>
          <p:cNvPicPr/>
          <p:nvPr/>
        </p:nvPicPr>
        <p:blipFill>
          <a:blip r:embed="rId4"/>
          <a:stretch/>
        </p:blipFill>
        <p:spPr>
          <a:xfrm>
            <a:off x="1676520" y="1981080"/>
            <a:ext cx="1487520" cy="1428840"/>
          </a:xfrm>
          <a:prstGeom prst="rect">
            <a:avLst/>
          </a:prstGeom>
          <a:ln w="0">
            <a:noFill/>
          </a:ln>
        </p:spPr>
      </p:pic>
      <p:pic>
        <p:nvPicPr>
          <p:cNvPr id="139" name="" descr=""/>
          <p:cNvPicPr/>
          <p:nvPr/>
        </p:nvPicPr>
        <p:blipFill>
          <a:blip r:embed="rId5"/>
          <a:stretch/>
        </p:blipFill>
        <p:spPr>
          <a:xfrm>
            <a:off x="1600200" y="3809880"/>
            <a:ext cx="1628640" cy="172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Ramadan</a:t>
            </a:r>
            <a:endParaRPr b="0" lang="en-US" sz="4400" spc="-1" strike="noStrike">
              <a:solidFill>
                <a:srgbClr val="ffffff"/>
              </a:solidFill>
              <a:latin typeface="Times New Roman"/>
            </a:endParaRPr>
          </a:p>
        </p:txBody>
      </p:sp>
      <p:sp>
        <p:nvSpPr>
          <p:cNvPr id="141"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Ramadan </a:t>
            </a:r>
            <a:r>
              <a:rPr b="0" lang="fr-FR" sz="2300" spc="-1" strike="noStrike">
                <a:solidFill>
                  <a:srgbClr val="ffffff"/>
                </a:solidFill>
                <a:latin typeface="Maiandra GD"/>
              </a:rPr>
              <a:t>est le 9e mois du </a:t>
            </a:r>
            <a:r>
              <a:rPr b="0" lang="fr-FR" sz="2300" spc="-1" strike="noStrike" u="sng">
                <a:solidFill>
                  <a:srgbClr val="999900"/>
                </a:solidFill>
                <a:uFillTx/>
                <a:latin typeface="Maiandra GD"/>
                <a:hlinkClick r:id="rId1"/>
              </a:rPr>
              <a:t>calendrier musulman</a:t>
            </a:r>
            <a:r>
              <a:rPr b="0" lang="fr-FR" sz="2300" spc="-1" strike="noStrike">
                <a:solidFill>
                  <a:srgbClr val="ffffff"/>
                </a:solidFill>
                <a:latin typeface="Maiandra GD"/>
              </a:rPr>
              <a:t>. Ce mois marque, pour les musulmans, le début de la révélation du </a:t>
            </a:r>
            <a:r>
              <a:rPr b="0" lang="fr-FR" sz="2300" spc="-1" strike="noStrike" u="sng">
                <a:solidFill>
                  <a:srgbClr val="999900"/>
                </a:solidFill>
                <a:uFillTx/>
                <a:latin typeface="Maiandra GD"/>
                <a:hlinkClick r:id="rId2"/>
              </a:rPr>
              <a:t>Coran</a:t>
            </a:r>
            <a:r>
              <a:rPr b="0" lang="fr-FR" sz="2300" spc="-1" strike="noStrike">
                <a:solidFill>
                  <a:srgbClr val="ffffff"/>
                </a:solidFill>
                <a:latin typeface="Maiandra GD"/>
              </a:rPr>
              <a:t> faite à </a:t>
            </a:r>
            <a:r>
              <a:rPr b="0" lang="fr-FR" sz="2300" spc="-1" strike="noStrike" u="sng">
                <a:solidFill>
                  <a:srgbClr val="999900"/>
                </a:solidFill>
                <a:uFillTx/>
                <a:latin typeface="Maiandra GD"/>
                <a:hlinkClick r:id="rId3"/>
              </a:rPr>
              <a:t>Mahomet</a:t>
            </a:r>
            <a:r>
              <a:rPr b="0" lang="fr-FR" sz="2300" spc="-1" strike="noStrike">
                <a:solidFill>
                  <a:srgbClr val="ffffff"/>
                </a:solidFill>
                <a:latin typeface="Maiandra GD"/>
              </a:rPr>
              <a:t>. Afin de sanctifier ce mois, il a été décidé que les musulmans pratiqueraient un </a:t>
            </a:r>
            <a:r>
              <a:rPr b="0" lang="fr-FR" sz="2300" spc="-1" strike="noStrike" u="sng">
                <a:solidFill>
                  <a:srgbClr val="999900"/>
                </a:solidFill>
                <a:uFillTx/>
                <a:latin typeface="Maiandra GD"/>
                <a:hlinkClick r:id="rId4"/>
              </a:rPr>
              <a:t>jeûne</a:t>
            </a:r>
            <a:endParaRPr b="0" lang="en-US" sz="2300" spc="-1" strike="noStrike">
              <a:solidFill>
                <a:srgbClr val="ffffff"/>
              </a:solidFill>
              <a:latin typeface="Arial"/>
            </a:endParaRPr>
          </a:p>
        </p:txBody>
      </p:sp>
      <p:pic>
        <p:nvPicPr>
          <p:cNvPr id="142" name="zoomed-out-image" descr=""/>
          <p:cNvPicPr/>
          <p:nvPr/>
        </p:nvPicPr>
        <p:blipFill>
          <a:blip r:embed="rId5"/>
          <a:stretch/>
        </p:blipFill>
        <p:spPr>
          <a:xfrm>
            <a:off x="4799160" y="2575080"/>
            <a:ext cx="3773520" cy="254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Hanouka</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Maiandra GD"/>
              </a:rPr>
              <a:t>La fête des lumières</a:t>
            </a:r>
            <a:r>
              <a:rPr b="0" lang="fr-FR" sz="2700" spc="-1" strike="noStrike">
                <a:solidFill>
                  <a:srgbClr val="ffffff"/>
                </a:solidFill>
                <a:latin typeface="Maiandra GD"/>
              </a:rPr>
              <a:t> </a:t>
            </a:r>
            <a:br>
              <a:rPr sz="2700"/>
            </a:br>
            <a:r>
              <a:rPr b="0" lang="fr-FR" sz="2700" spc="-1" strike="noStrike">
                <a:solidFill>
                  <a:srgbClr val="ffffff"/>
                </a:solidFill>
                <a:latin typeface="Maiandra GD"/>
              </a:rPr>
              <a:t>allumages des lumières: à partir du 15 décembre au soir jusqu'au 22 au soir</a:t>
            </a:r>
            <a:endParaRPr b="0" lang="en-US" sz="2700" spc="-1" strike="noStrike">
              <a:solidFill>
                <a:srgbClr val="ffffff"/>
              </a:solidFill>
              <a:latin typeface="Arial"/>
            </a:endParaRPr>
          </a:p>
        </p:txBody>
      </p:sp>
      <p:pic>
        <p:nvPicPr>
          <p:cNvPr id="145" name="" descr=""/>
          <p:cNvPicPr/>
          <p:nvPr/>
        </p:nvPicPr>
        <p:blipFill>
          <a:blip r:embed="rId1"/>
          <a:stretch/>
        </p:blipFill>
        <p:spPr>
          <a:xfrm>
            <a:off x="5791320" y="1981080"/>
            <a:ext cx="1714320" cy="1714680"/>
          </a:xfrm>
          <a:prstGeom prst="rect">
            <a:avLst/>
          </a:prstGeom>
          <a:ln w="0">
            <a:noFill/>
          </a:ln>
        </p:spPr>
      </p:pic>
      <p:pic>
        <p:nvPicPr>
          <p:cNvPr id="146" name="" descr=""/>
          <p:cNvPicPr/>
          <p:nvPr/>
        </p:nvPicPr>
        <p:blipFill>
          <a:blip r:embed="rId2"/>
          <a:stretch/>
        </p:blipFill>
        <p:spPr>
          <a:xfrm>
            <a:off x="5257800" y="3962520"/>
            <a:ext cx="2819520" cy="1866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Maiandra GD"/>
              </a:rPr>
              <a:t>Le réveillon de la Saint Sylvestre</a:t>
            </a:r>
            <a:endParaRPr b="0" lang="en-US" sz="4000" spc="-1" strike="noStrike">
              <a:solidFill>
                <a:srgbClr val="ffffff"/>
              </a:solidFill>
              <a:latin typeface="Times New Roman"/>
            </a:endParaRPr>
          </a:p>
        </p:txBody>
      </p:sp>
      <p:sp>
        <p:nvSpPr>
          <p:cNvPr id="148"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6000"/>
          </a:bodyPr>
          <a:p>
            <a:pPr marL="329040" indent="-32904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ffffff"/>
                </a:solidFill>
                <a:latin typeface="Maiandra GD"/>
              </a:rPr>
              <a:t>La bûche de noël est le dessert typiquement français pour le repas du réveillon . Sa forme allongée et ronde, rappelle ainsi la bûche de bois que l'on faisait brûler pour les fêtes de noël. Il fut un temps où la coutume d'allumer une bûche, la veille de Noël, existait à travers toute l'Europe.</a:t>
            </a:r>
            <a:endParaRPr b="0" lang="en-US" sz="2300" spc="-1" strike="noStrike">
              <a:solidFill>
                <a:srgbClr val="ffffff"/>
              </a:solidFill>
              <a:latin typeface="Arial"/>
            </a:endParaRPr>
          </a:p>
        </p:txBody>
      </p:sp>
      <p:pic>
        <p:nvPicPr>
          <p:cNvPr id="149" name="" descr=""/>
          <p:cNvPicPr/>
          <p:nvPr/>
        </p:nvPicPr>
        <p:blipFill>
          <a:blip r:embed="rId1"/>
          <a:stretch/>
        </p:blipFill>
        <p:spPr>
          <a:xfrm>
            <a:off x="1062000" y="1828800"/>
            <a:ext cx="2830680" cy="2109960"/>
          </a:xfrm>
          <a:prstGeom prst="rect">
            <a:avLst/>
          </a:prstGeom>
          <a:ln w="0">
            <a:noFill/>
          </a:ln>
        </p:spPr>
      </p:pic>
      <p:pic>
        <p:nvPicPr>
          <p:cNvPr id="150" name="" descr=""/>
          <p:cNvPicPr/>
          <p:nvPr/>
        </p:nvPicPr>
        <p:blipFill>
          <a:blip r:embed="rId2"/>
          <a:stretch/>
        </p:blipFill>
        <p:spPr>
          <a:xfrm>
            <a:off x="1447920" y="4419720"/>
            <a:ext cx="2171520" cy="1380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Noël</a:t>
            </a:r>
            <a:endParaRPr b="0" lang="en-US" sz="4400" spc="-1" strike="noStrike">
              <a:solidFill>
                <a:srgbClr val="ffffff"/>
              </a:solidFill>
              <a:latin typeface="Times New Roman"/>
            </a:endParaRPr>
          </a:p>
        </p:txBody>
      </p:sp>
      <p:sp>
        <p:nvSpPr>
          <p:cNvPr id="152"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6000"/>
          </a:bodyPr>
          <a:p>
            <a:pPr marL="32904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29040" indent="-32904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Noël est un </a:t>
            </a:r>
            <a:r>
              <a:rPr b="0" lang="fr-FR" sz="2300" spc="-1" strike="noStrike" u="sng">
                <a:solidFill>
                  <a:srgbClr val="999900"/>
                </a:solidFill>
                <a:uFillTx/>
                <a:latin typeface="Maiandra GD"/>
                <a:hlinkClick r:id="rId1"/>
              </a:rPr>
              <a:t>jour férié</a:t>
            </a:r>
            <a:r>
              <a:rPr b="0" lang="fr-FR" sz="2300" spc="-1" strike="noStrike">
                <a:solidFill>
                  <a:srgbClr val="ffffff"/>
                </a:solidFill>
                <a:latin typeface="Maiandra GD"/>
              </a:rPr>
              <a:t> dans de nombreux pays de tradition chrétienne, qui tombe le </a:t>
            </a:r>
            <a:r>
              <a:rPr b="0" lang="fr-FR" sz="2300" spc="-1" strike="noStrike" u="sng">
                <a:solidFill>
                  <a:srgbClr val="999900"/>
                </a:solidFill>
                <a:uFillTx/>
                <a:latin typeface="Maiandra GD"/>
                <a:hlinkClick r:id="rId2"/>
              </a:rPr>
              <a:t>25 décembre</a:t>
            </a:r>
            <a:r>
              <a:rPr b="0" lang="fr-FR" sz="2300" spc="-1" strike="noStrike">
                <a:solidFill>
                  <a:srgbClr val="ffffff"/>
                </a:solidFill>
                <a:latin typeface="Maiandra GD"/>
              </a:rPr>
              <a:t> dans les pays de tradition catholique ou protestante, et le </a:t>
            </a:r>
            <a:r>
              <a:rPr b="0" lang="fr-FR" sz="2300" spc="-1" strike="noStrike" u="sng">
                <a:solidFill>
                  <a:srgbClr val="999900"/>
                </a:solidFill>
                <a:uFillTx/>
                <a:latin typeface="Maiandra GD"/>
                <a:hlinkClick r:id="rId3"/>
              </a:rPr>
              <a:t>7 janvier</a:t>
            </a:r>
            <a:r>
              <a:rPr b="0" lang="fr-FR" sz="2300" spc="-1" strike="noStrike">
                <a:solidFill>
                  <a:srgbClr val="ffffff"/>
                </a:solidFill>
                <a:latin typeface="Maiandra GD"/>
              </a:rPr>
              <a:t> dans les pays de tradition orthodoxe.</a:t>
            </a:r>
            <a:endParaRPr b="0" lang="en-US" sz="2300" spc="-1" strike="noStrike">
              <a:solidFill>
                <a:srgbClr val="ffffff"/>
              </a:solidFill>
              <a:latin typeface="Arial"/>
            </a:endParaRPr>
          </a:p>
        </p:txBody>
      </p:sp>
      <p:pic>
        <p:nvPicPr>
          <p:cNvPr id="153" name="" descr=""/>
          <p:cNvPicPr/>
          <p:nvPr/>
        </p:nvPicPr>
        <p:blipFill>
          <a:blip r:embed="rId4"/>
          <a:stretch/>
        </p:blipFill>
        <p:spPr>
          <a:xfrm>
            <a:off x="987480" y="2106720"/>
            <a:ext cx="3149640" cy="292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Un anniversair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5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Maiandra GD"/>
              </a:rPr>
              <a:t>Un </a:t>
            </a:r>
            <a:r>
              <a:rPr b="1" lang="fr-FR" sz="1800" spc="-1" strike="noStrike">
                <a:solidFill>
                  <a:srgbClr val="ffffff"/>
                </a:solidFill>
                <a:latin typeface="Maiandra GD"/>
              </a:rPr>
              <a:t>anniversaire</a:t>
            </a:r>
            <a:r>
              <a:rPr b="0" lang="fr-FR" sz="1800" spc="-1" strike="noStrike">
                <a:solidFill>
                  <a:srgbClr val="ffffff"/>
                </a:solidFill>
                <a:latin typeface="Maiandra GD"/>
              </a:rPr>
              <a:t> est la date dans l'année à laquelle un événement est survenu, habituellement une </a:t>
            </a:r>
            <a:r>
              <a:rPr b="0" lang="fr-FR" sz="1800" spc="-1" strike="noStrike" u="sng">
                <a:solidFill>
                  <a:srgbClr val="999900"/>
                </a:solidFill>
                <a:uFillTx/>
                <a:latin typeface="Maiandra GD"/>
                <a:hlinkClick r:id="rId1"/>
              </a:rPr>
              <a:t>naissance</a:t>
            </a:r>
            <a:r>
              <a:rPr b="0" lang="fr-FR" sz="1800" spc="-1" strike="noStrike">
                <a:solidFill>
                  <a:srgbClr val="ffffff"/>
                </a:solidFill>
                <a:latin typeface="Maiandra GD"/>
              </a:rPr>
              <a:t>. Il est fréquent dans de nombreuses cultures de célébrer l'anniversaire de la naissance de ses proches (parents, amis) en organisant une </a:t>
            </a:r>
            <a:r>
              <a:rPr b="0" lang="fr-FR" sz="1800" spc="-1" strike="noStrike" u="sng">
                <a:solidFill>
                  <a:srgbClr val="999900"/>
                </a:solidFill>
                <a:uFillTx/>
                <a:latin typeface="Maiandra GD"/>
                <a:hlinkClick r:id="rId2"/>
              </a:rPr>
              <a:t>fête</a:t>
            </a:r>
            <a:r>
              <a:rPr b="0" lang="fr-FR" sz="1800" spc="-1" strike="noStrike">
                <a:solidFill>
                  <a:srgbClr val="ffffff"/>
                </a:solidFill>
                <a:latin typeface="Maiandra GD"/>
              </a:rPr>
              <a:t> et en offrant des cadeaux à l'impétrant. C'est également en général l'occasion ce jour-là de les choyer plus que d'accoutumée, comme de réaliser certains de leurs </a:t>
            </a:r>
            <a:r>
              <a:rPr b="0" lang="fr-FR" sz="1800" spc="-1" strike="noStrike" u="sng">
                <a:solidFill>
                  <a:srgbClr val="999900"/>
                </a:solidFill>
                <a:uFillTx/>
                <a:latin typeface="Maiandra GD"/>
                <a:hlinkClick r:id="rId3"/>
              </a:rPr>
              <a:t>souhaits</a:t>
            </a:r>
            <a:r>
              <a:rPr b="0" lang="fr-FR" sz="1800" spc="-1" strike="noStrike">
                <a:solidFill>
                  <a:srgbClr val="ffffff"/>
                </a:solidFill>
                <a:latin typeface="Maiandra GD"/>
              </a:rPr>
              <a:t>. Et la date de mon anniversaire est le 17 août 1988.</a:t>
            </a:r>
            <a:endParaRPr b="0" lang="en-US" sz="1800" spc="-1" strike="noStrike">
              <a:solidFill>
                <a:srgbClr val="ffffff"/>
              </a:solidFill>
              <a:latin typeface="Arial"/>
            </a:endParaRPr>
          </a:p>
        </p:txBody>
      </p:sp>
      <p:pic>
        <p:nvPicPr>
          <p:cNvPr id="156" name="" descr=""/>
          <p:cNvPicPr/>
          <p:nvPr/>
        </p:nvPicPr>
        <p:blipFill>
          <a:blip r:embed="rId4"/>
          <a:stretch/>
        </p:blipFill>
        <p:spPr>
          <a:xfrm>
            <a:off x="1676520" y="2057400"/>
            <a:ext cx="1790640" cy="1658880"/>
          </a:xfrm>
          <a:prstGeom prst="rect">
            <a:avLst/>
          </a:prstGeom>
          <a:ln w="0">
            <a:noFill/>
          </a:ln>
        </p:spPr>
      </p:pic>
      <p:pic>
        <p:nvPicPr>
          <p:cNvPr id="157" name="" descr=""/>
          <p:cNvPicPr/>
          <p:nvPr/>
        </p:nvPicPr>
        <p:blipFill>
          <a:blip r:embed="rId5"/>
          <a:stretch/>
        </p:blipFill>
        <p:spPr>
          <a:xfrm>
            <a:off x="1523880" y="4038480"/>
            <a:ext cx="21718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iandra GD"/>
              </a:rPr>
              <a:t>Le Jour de L’ an</a:t>
            </a:r>
            <a:endParaRPr b="0" lang="en-US" sz="4400" spc="-1" strike="noStrike">
              <a:solidFill>
                <a:srgbClr val="ffffff"/>
              </a:solidFill>
              <a:latin typeface="Times New Roman"/>
            </a:endParaRPr>
          </a:p>
        </p:txBody>
      </p:sp>
      <p:sp>
        <p:nvSpPr>
          <p:cNvPr id="91"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e </a:t>
            </a:r>
            <a:r>
              <a:rPr b="1" lang="fr-FR" sz="2700" spc="-1" strike="noStrike">
                <a:solidFill>
                  <a:srgbClr val="ffffff"/>
                </a:solidFill>
                <a:latin typeface="Maiandra GD"/>
              </a:rPr>
              <a:t>jour de l'An</a:t>
            </a:r>
            <a:r>
              <a:rPr b="0" lang="fr-FR" sz="2700" spc="-1" strike="noStrike">
                <a:solidFill>
                  <a:srgbClr val="ffffff"/>
                </a:solidFill>
                <a:latin typeface="Maiandra GD"/>
              </a:rPr>
              <a:t> est la célébration du premier jour de l'année d'un </a:t>
            </a:r>
            <a:r>
              <a:rPr b="0" lang="fr-FR" sz="2700" spc="-1" strike="noStrike" u="sng">
                <a:solidFill>
                  <a:srgbClr val="999900"/>
                </a:solidFill>
                <a:uFillTx/>
                <a:latin typeface="Maiandra GD"/>
                <a:hlinkClick r:id="rId1"/>
              </a:rPr>
              <a:t>calendrier</a:t>
            </a:r>
            <a:r>
              <a:rPr b="0" lang="fr-FR" sz="2700" spc="-1" strike="noStrike">
                <a:solidFill>
                  <a:srgbClr val="ffffff"/>
                </a:solidFill>
                <a:latin typeface="Maiandra GD"/>
              </a:rPr>
              <a:t> donné.</a:t>
            </a:r>
            <a:endParaRPr b="0" lang="en-US" sz="2700" spc="-1" strike="noStrike">
              <a:solidFill>
                <a:srgbClr val="ffffff"/>
              </a:solidFill>
              <a:latin typeface="Arial"/>
            </a:endParaRPr>
          </a:p>
        </p:txBody>
      </p:sp>
      <p:pic>
        <p:nvPicPr>
          <p:cNvPr id="92" name="" descr=""/>
          <p:cNvPicPr/>
          <p:nvPr/>
        </p:nvPicPr>
        <p:blipFill>
          <a:blip r:embed="rId2"/>
          <a:stretch/>
        </p:blipFill>
        <p:spPr>
          <a:xfrm>
            <a:off x="1295280" y="1828800"/>
            <a:ext cx="1843200" cy="1835280"/>
          </a:xfrm>
          <a:prstGeom prst="rect">
            <a:avLst/>
          </a:prstGeom>
          <a:ln w="0">
            <a:noFill/>
          </a:ln>
        </p:spPr>
      </p:pic>
      <p:pic>
        <p:nvPicPr>
          <p:cNvPr id="93" name="" descr=""/>
          <p:cNvPicPr/>
          <p:nvPr/>
        </p:nvPicPr>
        <p:blipFill>
          <a:blip r:embed="rId3"/>
          <a:stretch/>
        </p:blipFill>
        <p:spPr>
          <a:xfrm>
            <a:off x="1143000" y="3809880"/>
            <a:ext cx="2590920" cy="19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Armistice</a:t>
            </a:r>
            <a:endParaRPr b="0" lang="en-US" sz="4400" spc="-1" strike="noStrike">
              <a:solidFill>
                <a:srgbClr val="ffffff"/>
              </a:solidFill>
              <a:latin typeface="Times New Roman"/>
            </a:endParaRPr>
          </a:p>
        </p:txBody>
      </p:sp>
      <p:sp>
        <p:nvSpPr>
          <p:cNvPr id="15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iandra GD"/>
              </a:rPr>
              <a:t>Un </a:t>
            </a:r>
            <a:r>
              <a:rPr b="1" lang="fr-FR" sz="2000" spc="-1" strike="noStrike">
                <a:solidFill>
                  <a:srgbClr val="ffffff"/>
                </a:solidFill>
                <a:latin typeface="Maiandra GD"/>
              </a:rPr>
              <a:t>armistice</a:t>
            </a:r>
            <a:r>
              <a:rPr b="0" lang="fr-FR" sz="2000" spc="-1" strike="noStrike">
                <a:solidFill>
                  <a:srgbClr val="ffffff"/>
                </a:solidFill>
                <a:latin typeface="Maiandra GD"/>
              </a:rPr>
              <a:t> est un </a:t>
            </a:r>
            <a:r>
              <a:rPr b="0" lang="fr-FR" sz="2000" spc="-1" strike="noStrike" u="sng">
                <a:solidFill>
                  <a:srgbClr val="999900"/>
                </a:solidFill>
                <a:uFillTx/>
                <a:latin typeface="Maiandra GD"/>
                <a:hlinkClick r:id="rId1"/>
              </a:rPr>
              <a:t>traité</a:t>
            </a:r>
            <a:r>
              <a:rPr b="0" lang="fr-FR" sz="2000" spc="-1" strike="noStrike">
                <a:solidFill>
                  <a:srgbClr val="ffffff"/>
                </a:solidFill>
                <a:latin typeface="Maiandra GD"/>
              </a:rPr>
              <a:t> mettant fin à des hostilités armées en temps de </a:t>
            </a:r>
            <a:r>
              <a:rPr b="0" lang="fr-FR" sz="2000" spc="-1" strike="noStrike" u="sng">
                <a:solidFill>
                  <a:srgbClr val="999900"/>
                </a:solidFill>
                <a:uFillTx/>
                <a:latin typeface="Maiandra GD"/>
                <a:hlinkClick r:id="rId2"/>
              </a:rPr>
              <a:t>guerre</a:t>
            </a:r>
            <a:r>
              <a:rPr b="0" lang="fr-FR" sz="2000" spc="-1" strike="noStrike">
                <a:solidFill>
                  <a:srgbClr val="ffffff"/>
                </a:solidFill>
                <a:latin typeface="Maiandra GD"/>
              </a:rPr>
              <a:t>. Mais il ne met pas fin officiellement à la guerre. C'est le jour qui marque officiellement la fin d'un conflit ; il est souvent considéré comme une </a:t>
            </a:r>
            <a:r>
              <a:rPr b="0" lang="fr-FR" sz="2000" spc="-1" strike="noStrike" u="sng">
                <a:solidFill>
                  <a:srgbClr val="999900"/>
                </a:solidFill>
                <a:uFillTx/>
                <a:latin typeface="Maiandra GD"/>
                <a:hlinkClick r:id="rId3"/>
              </a:rPr>
              <a:t>fête nationale</a:t>
            </a:r>
            <a:r>
              <a:rPr b="0" lang="fr-FR" sz="2000" spc="-1" strike="noStrike">
                <a:solidFill>
                  <a:srgbClr val="ffffff"/>
                </a:solidFill>
                <a:latin typeface="Maiandra GD"/>
              </a:rPr>
              <a:t> pour les pays sortis vainqueurs d'un conflit armé. C'est une suspension des hostilités après un accord entre les belligérants.</a:t>
            </a:r>
            <a:endParaRPr b="0" lang="en-US" sz="2000" spc="-1" strike="noStrike">
              <a:solidFill>
                <a:srgbClr val="ffffff"/>
              </a:solidFill>
              <a:latin typeface="Arial"/>
            </a:endParaRPr>
          </a:p>
        </p:txBody>
      </p:sp>
      <p:pic>
        <p:nvPicPr>
          <p:cNvPr id="160" name="" descr=""/>
          <p:cNvPicPr/>
          <p:nvPr/>
        </p:nvPicPr>
        <p:blipFill>
          <a:blip r:embed="rId4"/>
          <a:stretch/>
        </p:blipFill>
        <p:spPr>
          <a:xfrm>
            <a:off x="5638680" y="2362320"/>
            <a:ext cx="2292480" cy="2579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Nouvel An chinois</a:t>
            </a:r>
            <a:endParaRPr b="0" lang="en-US" sz="4400" spc="-1" strike="noStrike">
              <a:solidFill>
                <a:srgbClr val="ffffff"/>
              </a:solidFill>
              <a:latin typeface="Times New Roman"/>
            </a:endParaRPr>
          </a:p>
        </p:txBody>
      </p:sp>
      <p:sp>
        <p:nvSpPr>
          <p:cNvPr id="162"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e </a:t>
            </a:r>
            <a:r>
              <a:rPr b="1" lang="fr-FR" sz="2700" spc="-1" strike="noStrike">
                <a:solidFill>
                  <a:srgbClr val="ffffff"/>
                </a:solidFill>
                <a:latin typeface="Maiandra GD"/>
              </a:rPr>
              <a:t>nouvel an chinois</a:t>
            </a:r>
            <a:r>
              <a:rPr b="0" lang="fr-FR" sz="2700" spc="-1" strike="noStrike">
                <a:solidFill>
                  <a:srgbClr val="ffffff"/>
                </a:solidFill>
                <a:latin typeface="Maiandra GD"/>
              </a:rPr>
              <a:t> est la fête qui célèbre le premier jour du calendrier chinois ; c'est aussi le début de la fête du printemps, qui dure 15 jours, jusqu'à la fête des lanternes </a:t>
            </a:r>
            <a:endParaRPr b="0" lang="en-US" sz="2700" spc="-1" strike="noStrike">
              <a:solidFill>
                <a:srgbClr val="ffffff"/>
              </a:solidFill>
              <a:latin typeface="Arial"/>
            </a:endParaRPr>
          </a:p>
        </p:txBody>
      </p:sp>
      <p:pic>
        <p:nvPicPr>
          <p:cNvPr id="163" name="" descr=""/>
          <p:cNvPicPr/>
          <p:nvPr/>
        </p:nvPicPr>
        <p:blipFill>
          <a:blip r:embed="rId1"/>
          <a:stretch/>
        </p:blipFill>
        <p:spPr>
          <a:xfrm>
            <a:off x="5791320" y="1905120"/>
            <a:ext cx="1904760" cy="1904760"/>
          </a:xfrm>
          <a:prstGeom prst="rect">
            <a:avLst/>
          </a:prstGeom>
          <a:ln w="0">
            <a:noFill/>
          </a:ln>
        </p:spPr>
      </p:pic>
      <p:pic>
        <p:nvPicPr>
          <p:cNvPr id="164" name="" descr=""/>
          <p:cNvPicPr/>
          <p:nvPr/>
        </p:nvPicPr>
        <p:blipFill>
          <a:blip r:embed="rId2"/>
          <a:stretch/>
        </p:blipFill>
        <p:spPr>
          <a:xfrm>
            <a:off x="5715000" y="4114800"/>
            <a:ext cx="2057400" cy="1571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Kwaanza</a:t>
            </a:r>
            <a:endParaRPr b="0" lang="en-US" sz="4400" spc="-1" strike="noStrike">
              <a:solidFill>
                <a:srgbClr val="ffffff"/>
              </a:solidFill>
              <a:latin typeface="Times New Roman"/>
            </a:endParaRPr>
          </a:p>
        </p:txBody>
      </p:sp>
      <p:sp>
        <p:nvSpPr>
          <p:cNvPr id="166"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300" spc="-1" strike="noStrike">
                <a:solidFill>
                  <a:srgbClr val="ffffff"/>
                </a:solidFill>
                <a:latin typeface="Maiandra GD"/>
              </a:rPr>
              <a:t>Kwanzaa</a:t>
            </a:r>
            <a:r>
              <a:rPr b="0" lang="en" sz="2300" spc="-1" strike="noStrike">
                <a:solidFill>
                  <a:srgbClr val="ffffff"/>
                </a:solidFill>
                <a:latin typeface="Maiandra GD"/>
              </a:rPr>
              <a:t> (or </a:t>
            </a:r>
            <a:r>
              <a:rPr b="1" lang="en" sz="2300" spc="-1" strike="noStrike">
                <a:solidFill>
                  <a:srgbClr val="ffffff"/>
                </a:solidFill>
                <a:latin typeface="Maiandra GD"/>
              </a:rPr>
              <a:t>Kwaanza</a:t>
            </a:r>
            <a:r>
              <a:rPr b="0" lang="en" sz="2300" spc="-1" strike="noStrike">
                <a:solidFill>
                  <a:srgbClr val="ffffff"/>
                </a:solidFill>
                <a:latin typeface="Maiandra GD"/>
              </a:rPr>
              <a:t>) is a week-long Pan-African secular holiday primarily honoring African-American heritage. It is observed from December 26 to January 1 each year, almost exclusively in the United States of America.</a:t>
            </a:r>
            <a:endParaRPr b="0" lang="en-US" sz="2300" spc="-1" strike="noStrike">
              <a:solidFill>
                <a:srgbClr val="ffffff"/>
              </a:solidFill>
              <a:latin typeface="Arial"/>
            </a:endParaRPr>
          </a:p>
        </p:txBody>
      </p:sp>
      <p:pic>
        <p:nvPicPr>
          <p:cNvPr id="167" name="" descr=""/>
          <p:cNvPicPr/>
          <p:nvPr/>
        </p:nvPicPr>
        <p:blipFill>
          <a:blip r:embed="rId1"/>
          <a:stretch/>
        </p:blipFill>
        <p:spPr>
          <a:xfrm>
            <a:off x="911160" y="2233440"/>
            <a:ext cx="3246480" cy="2732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es fêtes Francophones  in English</a:t>
            </a:r>
            <a:endParaRPr b="0" lang="en-US" sz="4000" spc="-1" strike="noStrike">
              <a:solidFill>
                <a:srgbClr val="ffffff"/>
              </a:solidFill>
              <a:latin typeface="Times New Roman"/>
            </a:endParaRPr>
          </a:p>
        </p:txBody>
      </p:sp>
      <p:sp>
        <p:nvSpPr>
          <p:cNvPr id="16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7c80"/>
                </a:solidFill>
                <a:latin typeface="Maiandra GD"/>
              </a:rPr>
              <a:t>Ramada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Maiandra GD"/>
              </a:rPr>
              <a:t>	</a:t>
            </a:r>
            <a:r>
              <a:rPr b="0" lang="en" sz="1800" spc="-1" strike="noStrike">
                <a:solidFill>
                  <a:srgbClr val="ffffff"/>
                </a:solidFill>
                <a:latin typeface="Maiandra GD"/>
              </a:rPr>
              <a:t>It is considered the most venerated, blessed and spiritually-beneficial month of the Islamic year. Prayers, fasting, charity, and self-accountability are especially stressed at this time; religious observances associated with Ramadan are kept throughout the month. God prescribes daily fasting for all able, adult Muslims during the whole month of Ramadan, beginning with the sighting of the new moon.</a:t>
            </a:r>
            <a:endParaRPr b="0" lang="en-US" sz="1800" spc="-1" strike="noStrike">
              <a:solidFill>
                <a:srgbClr val="ffffff"/>
              </a:solidFill>
              <a:latin typeface="Arial"/>
            </a:endParaRPr>
          </a:p>
        </p:txBody>
      </p:sp>
      <p:sp>
        <p:nvSpPr>
          <p:cNvPr id="170" name="PlaceHolder 3"/>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Maiandra GD"/>
              </a:rPr>
              <a:t>La Chandeleur (shahnduhluhr)</a:t>
            </a:r>
            <a:r>
              <a:rPr b="1" lang="en-US" sz="1800" spc="-1" strike="noStrike">
                <a:solidFill>
                  <a:srgbClr val="ffffff"/>
                </a:solidFill>
                <a:latin typeface="Maiandra GD"/>
              </a:rPr>
              <a:t> </a:t>
            </a:r>
            <a:r>
              <a:rPr b="0" lang="en-US" sz="1800" spc="-1" strike="noStrike">
                <a:solidFill>
                  <a:srgbClr val="ffffff"/>
                </a:solidFill>
                <a:latin typeface="Maiandra GD"/>
              </a:rPr>
              <a:t>a Holy Day in the Catholic Church, is celebrated each February 2nd. On this day, the Baby Jesus was presented in the temple 40 days after his birth as was custom. It also celebrates the purification of his mother, Mary. When Joseph and Mary arrived at the temple, Saint Simeon welcomed them and proclaimed that the baby was a "Light of the World". It is the custom to prepare and eat crêpes on February 2nd and all through the Mardi Gras season.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es fêtes Francophones  in English</a:t>
            </a:r>
            <a:endParaRPr b="0" lang="en-US" sz="4000" spc="-1" strike="noStrike">
              <a:solidFill>
                <a:srgbClr val="ffffff"/>
              </a:solidFill>
              <a:latin typeface="Times New Roman"/>
            </a:endParaRPr>
          </a:p>
        </p:txBody>
      </p:sp>
      <p:sp>
        <p:nvSpPr>
          <p:cNvPr id="172"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iandra GD"/>
              </a:rPr>
              <a:t>Noël</a:t>
            </a:r>
            <a:r>
              <a:rPr b="0" lang="en-US" sz="2000" spc="-1" strike="noStrike">
                <a:solidFill>
                  <a:srgbClr val="ffffff"/>
                </a:solidFill>
                <a:latin typeface="Maiandra GD"/>
              </a:rPr>
              <a:t> </a:t>
            </a:r>
            <a:r>
              <a:rPr b="1" lang="en-US" sz="2000" spc="-1" strike="noStrike">
                <a:solidFill>
                  <a:srgbClr val="ffffff"/>
                </a:solidFill>
                <a:latin typeface="Maiandra GD"/>
              </a:rPr>
              <a:t>In Provence, </a:t>
            </a:r>
            <a:r>
              <a:rPr b="0" lang="en-US" sz="2000" spc="-1" strike="noStrike">
                <a:solidFill>
                  <a:srgbClr val="ffffff"/>
                </a:solidFill>
                <a:latin typeface="Maiandra GD"/>
              </a:rPr>
              <a:t>the season actually starts on December 4th, St. Barbe's day. Children wrap wheat or lentil seeds in a damp cloth so that they germinate. the family gathers for the </a:t>
            </a:r>
            <a:r>
              <a:rPr b="0" i="1" lang="en-US" sz="2000" spc="-1" strike="noStrike">
                <a:solidFill>
                  <a:srgbClr val="ffffff"/>
                </a:solidFill>
                <a:latin typeface="Maiandra GD"/>
              </a:rPr>
              <a:t>gros souper</a:t>
            </a:r>
            <a:r>
              <a:rPr b="0" lang="en-US" sz="2000" spc="-1" strike="noStrike">
                <a:solidFill>
                  <a:srgbClr val="ffffff"/>
                </a:solidFill>
                <a:latin typeface="Maiandra GD"/>
              </a:rPr>
              <a:t> which celebrates all the things the family is thankful for, yet maintains a religious symbolism. After the souper, the Treize Desserts (13 Desserts) are served. This also has a religious meaning, representing all those present at the Last Supper.</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iandra GD"/>
              </a:rPr>
              <a:t>Carnaval</a:t>
            </a:r>
            <a:r>
              <a:rPr b="0" lang="en-US" sz="2000" spc="-1" strike="noStrike">
                <a:solidFill>
                  <a:srgbClr val="ffffff"/>
                </a:solidFill>
                <a:latin typeface="Maiandra GD"/>
              </a:rPr>
              <a:t> de </a:t>
            </a:r>
            <a:r>
              <a:rPr b="1" lang="en-US" sz="2000" spc="-1" strike="noStrike">
                <a:solidFill>
                  <a:srgbClr val="ffffff"/>
                </a:solidFill>
                <a:latin typeface="Maiandra GD"/>
              </a:rPr>
              <a:t>Québe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	</a:t>
            </a:r>
            <a:r>
              <a:rPr b="0" lang="en-US" sz="2000" spc="-1" strike="noStrike">
                <a:solidFill>
                  <a:srgbClr val="ffffff"/>
                </a:solidFill>
                <a:latin typeface="Maiandra GD"/>
              </a:rPr>
              <a:t>Come and visit the biggest winter carnival in the world in the heart of old Quebec. </a:t>
            </a:r>
            <a:br>
              <a:rPr sz="2000"/>
            </a:br>
            <a:br>
              <a:rPr sz="2000"/>
            </a:br>
            <a:r>
              <a:rPr b="0" lang="en-US" sz="2000" spc="-1" strike="noStrike">
                <a:solidFill>
                  <a:srgbClr val="ffffff"/>
                </a:solidFill>
                <a:latin typeface="Maiandra GD"/>
              </a:rPr>
              <a:t>The snow bath, night parades, slide runs, giant foot ball game, concerts, snow sculptures, horse-drawn sleigh or dogsled rides, Ice Tower and skating are among the many activities offered during this year's Carnival. </a:t>
            </a:r>
            <a:br>
              <a:rPr sz="2000"/>
            </a:b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ndy"/>
              </a:rPr>
              <a:t>Created by</a:t>
            </a:r>
            <a:endParaRPr b="0" lang="en-US" sz="5400" spc="-1" strike="noStrike">
              <a:solidFill>
                <a:srgbClr val="ffffff"/>
              </a:solidFill>
              <a:latin typeface="Times New Roman"/>
            </a:endParaRPr>
          </a:p>
        </p:txBody>
      </p:sp>
      <p:sp>
        <p:nvSpPr>
          <p:cNvPr id="17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ndy"/>
              </a:rPr>
              <a:t>Pimsorn Chanpa </a:t>
            </a:r>
            <a:endParaRPr b="0" lang="en-US" sz="60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ndy"/>
              </a:rPr>
              <a:t>( Sophie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a Fête de Rois (L'Épiphanie)</a:t>
            </a:r>
            <a:endParaRPr b="0" lang="en-US" sz="4400" spc="-1" strike="noStrike">
              <a:solidFill>
                <a:srgbClr val="ffffff"/>
              </a:solidFill>
              <a:latin typeface="Times New Roman"/>
            </a:endParaRPr>
          </a:p>
        </p:txBody>
      </p:sp>
      <p:sp>
        <p:nvSpPr>
          <p:cNvPr id="9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a Fête de Rois est une fête </a:t>
            </a:r>
            <a:r>
              <a:rPr b="0" lang="fr-FR" sz="2700" spc="-1" strike="noStrike" u="sng">
                <a:solidFill>
                  <a:srgbClr val="999900"/>
                </a:solidFill>
                <a:uFillTx/>
                <a:latin typeface="Maiandra GD"/>
                <a:hlinkClick r:id="rId1"/>
              </a:rPr>
              <a:t>chrétienne</a:t>
            </a:r>
            <a:r>
              <a:rPr b="0" lang="fr-FR" sz="2700" spc="-1" strike="noStrike">
                <a:solidFill>
                  <a:srgbClr val="ffffff"/>
                </a:solidFill>
                <a:latin typeface="Maiandra GD"/>
              </a:rPr>
              <a:t> qui célèbre la présentation de jésus au trois rois mages. elle a lieu le </a:t>
            </a:r>
            <a:r>
              <a:rPr b="0" lang="fr-FR" sz="2700" spc="-1" strike="noStrike" u="sng">
                <a:solidFill>
                  <a:srgbClr val="999900"/>
                </a:solidFill>
                <a:uFillTx/>
                <a:latin typeface="Maiandra GD"/>
                <a:hlinkClick r:id="rId2"/>
              </a:rPr>
              <a:t>6 janvier</a:t>
            </a:r>
            <a:endParaRPr b="0" lang="en-US" sz="2700" spc="-1" strike="noStrike">
              <a:solidFill>
                <a:srgbClr val="ffffff"/>
              </a:solidFill>
              <a:latin typeface="Arial"/>
            </a:endParaRPr>
          </a:p>
        </p:txBody>
      </p:sp>
      <p:pic>
        <p:nvPicPr>
          <p:cNvPr id="96" name="" descr=""/>
          <p:cNvPicPr/>
          <p:nvPr/>
        </p:nvPicPr>
        <p:blipFill>
          <a:blip r:embed="rId3"/>
          <a:stretch/>
        </p:blipFill>
        <p:spPr>
          <a:xfrm>
            <a:off x="1363680" y="1963800"/>
            <a:ext cx="1736640" cy="1190520"/>
          </a:xfrm>
          <a:prstGeom prst="rect">
            <a:avLst/>
          </a:prstGeom>
          <a:ln w="0">
            <a:noFill/>
          </a:ln>
        </p:spPr>
      </p:pic>
      <p:pic>
        <p:nvPicPr>
          <p:cNvPr id="97" name="" descr=""/>
          <p:cNvPicPr/>
          <p:nvPr/>
        </p:nvPicPr>
        <p:blipFill>
          <a:blip r:embed="rId4"/>
          <a:stretch/>
        </p:blipFill>
        <p:spPr>
          <a:xfrm>
            <a:off x="1219320" y="3429000"/>
            <a:ext cx="2000160" cy="2019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Chandeleur</a:t>
            </a:r>
            <a:endParaRPr b="0" lang="en-US" sz="4400" spc="-1" strike="noStrike">
              <a:solidFill>
                <a:srgbClr val="ffffff"/>
              </a:solidFill>
              <a:latin typeface="Times New Roman"/>
            </a:endParaRPr>
          </a:p>
        </p:txBody>
      </p:sp>
      <p:sp>
        <p:nvSpPr>
          <p:cNvPr id="9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Fêtée chaque année le </a:t>
            </a:r>
            <a:r>
              <a:rPr b="0" lang="fr-FR" sz="2700" spc="-1" strike="noStrike" u="sng">
                <a:solidFill>
                  <a:srgbClr val="999900"/>
                </a:solidFill>
                <a:uFillTx/>
                <a:latin typeface="Maiandra GD"/>
                <a:hlinkClick r:id="rId1"/>
              </a:rPr>
              <a:t>2 février</a:t>
            </a:r>
            <a:r>
              <a:rPr b="0" lang="fr-FR" sz="2700" spc="-1" strike="noStrike">
                <a:solidFill>
                  <a:srgbClr val="ffffff"/>
                </a:solidFill>
                <a:latin typeface="Maiandra GD"/>
              </a:rPr>
              <a:t>, la </a:t>
            </a:r>
            <a:r>
              <a:rPr b="1" lang="fr-FR" sz="2700" spc="-1" strike="noStrike">
                <a:solidFill>
                  <a:srgbClr val="ffffff"/>
                </a:solidFill>
                <a:latin typeface="Maiandra GD"/>
              </a:rPr>
              <a:t>Chandeleur</a:t>
            </a:r>
            <a:r>
              <a:rPr b="0" lang="fr-FR" sz="2700" spc="-1" strike="noStrike">
                <a:solidFill>
                  <a:srgbClr val="ffffff"/>
                </a:solidFill>
                <a:latin typeface="Maiandra GD"/>
              </a:rPr>
              <a:t> ou plutôt « chandelle » tire son origine du latin </a:t>
            </a:r>
            <a:r>
              <a:rPr b="0" i="1" lang="fr-FR" sz="2700" spc="-1" strike="noStrike">
                <a:solidFill>
                  <a:srgbClr val="ffffff"/>
                </a:solidFill>
                <a:latin typeface="Maiandra GD"/>
              </a:rPr>
              <a:t>Festa Candelarum</a:t>
            </a:r>
            <a:r>
              <a:rPr b="0" lang="fr-FR" sz="2700" spc="-1" strike="noStrike">
                <a:solidFill>
                  <a:srgbClr val="ffffff"/>
                </a:solidFill>
                <a:latin typeface="Maiandra GD"/>
              </a:rPr>
              <a:t> ou </a:t>
            </a:r>
            <a:r>
              <a:rPr b="0" i="1" lang="fr-FR" sz="2700" spc="-1" strike="noStrike">
                <a:solidFill>
                  <a:srgbClr val="ffffff"/>
                </a:solidFill>
                <a:latin typeface="Maiandra GD"/>
              </a:rPr>
              <a:t>fête des chandelles</a:t>
            </a:r>
            <a:r>
              <a:rPr b="0" lang="fr-FR" sz="2700" spc="-1" strike="noStrike">
                <a:solidFill>
                  <a:srgbClr val="ffffff"/>
                </a:solidFill>
                <a:latin typeface="Maiandra GD"/>
              </a:rPr>
              <a:t>.</a:t>
            </a:r>
            <a:endParaRPr b="0" lang="en-US" sz="2700" spc="-1" strike="noStrike">
              <a:solidFill>
                <a:srgbClr val="ffffff"/>
              </a:solidFill>
              <a:latin typeface="Arial"/>
            </a:endParaRPr>
          </a:p>
        </p:txBody>
      </p:sp>
      <p:graphicFrame>
        <p:nvGraphicFramePr>
          <p:cNvPr id="100" name=""/>
          <p:cNvGraphicFramePr/>
          <p:nvPr/>
        </p:nvGraphicFramePr>
        <p:xfrm>
          <a:off x="4684680" y="1830240"/>
          <a:ext cx="4002120" cy="1941840"/>
        </p:xfrm>
        <a:graphic>
          <a:graphicData uri="http://schemas.openxmlformats.org/presentationml/2006/ole">
            <p:oleObj r:id="rId2" spid="">
              <p:embed/>
              <p:pic>
                <p:nvPicPr>
                  <p:cNvPr id="101" name="" descr=""/>
                  <p:cNvPicPr/>
                  <p:nvPr/>
                </p:nvPicPr>
                <p:blipFill>
                  <a:blip r:embed="rId3"/>
                  <a:stretch/>
                </p:blipFill>
                <p:spPr>
                  <a:xfrm>
                    <a:off x="4684680" y="1830240"/>
                    <a:ext cx="4002120" cy="1941840"/>
                  </a:xfrm>
                  <a:prstGeom prst="rect">
                    <a:avLst/>
                  </a:prstGeom>
                  <a:ln w="0">
                    <a:noFill/>
                  </a:ln>
                </p:spPr>
              </p:pic>
            </p:oleObj>
          </a:graphicData>
        </a:graphic>
      </p:graphicFrame>
      <p:pic>
        <p:nvPicPr>
          <p:cNvPr id="102" name="" descr="">
            <a:hlinkClick r:id="rId4"/>
          </p:cNvPr>
          <p:cNvPicPr/>
          <p:nvPr/>
        </p:nvPicPr>
        <p:blipFill>
          <a:blip r:embed="rId5"/>
          <a:stretch/>
        </p:blipFill>
        <p:spPr>
          <a:xfrm>
            <a:off x="5638680" y="1905120"/>
            <a:ext cx="2208240" cy="1465200"/>
          </a:xfrm>
          <a:prstGeom prst="rect">
            <a:avLst/>
          </a:prstGeom>
          <a:ln w="0">
            <a:noFill/>
          </a:ln>
        </p:spPr>
      </p:pic>
      <p:pic>
        <p:nvPicPr>
          <p:cNvPr id="103" name="" descr=""/>
          <p:cNvPicPr/>
          <p:nvPr/>
        </p:nvPicPr>
        <p:blipFill>
          <a:blip r:embed="rId6"/>
          <a:stretch/>
        </p:blipFill>
        <p:spPr>
          <a:xfrm>
            <a:off x="5638680" y="3733920"/>
            <a:ext cx="2381400" cy="1904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e Saint Valentin</a:t>
            </a:r>
            <a:endParaRPr b="0" lang="en-US" sz="4400" spc="-1" strike="noStrike">
              <a:solidFill>
                <a:srgbClr val="ffffff"/>
              </a:solidFill>
              <a:latin typeface="Times New Roman"/>
            </a:endParaRPr>
          </a:p>
        </p:txBody>
      </p:sp>
      <p:sp>
        <p:nvSpPr>
          <p:cNvPr id="10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5000"/>
          </a:bodyPr>
          <a:p>
            <a:pPr marL="325800" indent="-32580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e jour de la Saint-Valentin, le </a:t>
            </a:r>
            <a:r>
              <a:rPr b="0" lang="fr-FR" sz="2300" spc="-1" strike="noStrike" u="sng">
                <a:solidFill>
                  <a:srgbClr val="999900"/>
                </a:solidFill>
                <a:uFillTx/>
                <a:latin typeface="Maiandra GD"/>
                <a:hlinkClick r:id="rId1"/>
              </a:rPr>
              <a:t>14 février</a:t>
            </a:r>
            <a:r>
              <a:rPr b="0" lang="fr-FR" sz="2300" spc="-1" strike="noStrike">
                <a:solidFill>
                  <a:srgbClr val="ffffff"/>
                </a:solidFill>
                <a:latin typeface="Maiandra GD"/>
              </a:rPr>
              <a:t>, est considéré dans de nombreux pays comme la fête des amoureux. Les couples en profitent pour échanger des mots doux et des cadeaux comme preuves d'amour ainsi que des roses rouges qui sont l'emblème de la </a:t>
            </a:r>
            <a:r>
              <a:rPr b="0" lang="fr-FR" sz="2300" spc="-1" strike="noStrike" u="sng">
                <a:solidFill>
                  <a:srgbClr val="999900"/>
                </a:solidFill>
                <a:uFillTx/>
                <a:latin typeface="Maiandra GD"/>
                <a:hlinkClick r:id="rId2"/>
              </a:rPr>
              <a:t>passion</a:t>
            </a:r>
            <a:r>
              <a:rPr b="0" lang="fr-FR" sz="2300" spc="-1" strike="noStrike">
                <a:solidFill>
                  <a:srgbClr val="ffffff"/>
                </a:solidFill>
                <a:latin typeface="Maiandra GD"/>
              </a:rPr>
              <a:t>.</a:t>
            </a:r>
            <a:endParaRPr b="0" lang="en-US" sz="2300" spc="-1" strike="noStrike">
              <a:solidFill>
                <a:srgbClr val="ffffff"/>
              </a:solidFill>
              <a:latin typeface="Arial"/>
            </a:endParaRPr>
          </a:p>
        </p:txBody>
      </p:sp>
      <p:pic>
        <p:nvPicPr>
          <p:cNvPr id="106" name="" descr=""/>
          <p:cNvPicPr/>
          <p:nvPr/>
        </p:nvPicPr>
        <p:blipFill>
          <a:blip r:embed="rId3"/>
          <a:stretch/>
        </p:blipFill>
        <p:spPr>
          <a:xfrm>
            <a:off x="2971800" y="1828800"/>
            <a:ext cx="1600200" cy="2286000"/>
          </a:xfrm>
          <a:prstGeom prst="rect">
            <a:avLst/>
          </a:prstGeom>
          <a:ln w="0">
            <a:noFill/>
          </a:ln>
        </p:spPr>
      </p:pic>
      <p:pic>
        <p:nvPicPr>
          <p:cNvPr id="107" name="" descr=""/>
          <p:cNvPicPr/>
          <p:nvPr/>
        </p:nvPicPr>
        <p:blipFill>
          <a:blip r:embed="rId4"/>
          <a:stretch/>
        </p:blipFill>
        <p:spPr>
          <a:xfrm>
            <a:off x="533520" y="3886200"/>
            <a:ext cx="2209680" cy="202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Mardi Gras</a:t>
            </a:r>
            <a:endParaRPr b="0" lang="en-US" sz="4400" spc="-1" strike="noStrike">
              <a:solidFill>
                <a:srgbClr val="ffffff"/>
              </a:solidFill>
              <a:latin typeface="Times New Roman"/>
            </a:endParaRPr>
          </a:p>
        </p:txBody>
      </p:sp>
      <p:sp>
        <p:nvSpPr>
          <p:cNvPr id="10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9000"/>
          </a:bodyPr>
          <a:p>
            <a:pPr marL="339480" indent="-3394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Mardi gras</a:t>
            </a:r>
            <a:r>
              <a:rPr b="0" lang="fr-FR" sz="2300" spc="-1" strike="noStrike">
                <a:solidFill>
                  <a:srgbClr val="ffffff"/>
                </a:solidFill>
                <a:latin typeface="Maiandra GD"/>
              </a:rPr>
              <a:t> est une </a:t>
            </a:r>
            <a:r>
              <a:rPr b="0" lang="fr-FR" sz="2300" spc="-1" strike="noStrike" u="sng">
                <a:solidFill>
                  <a:srgbClr val="999900"/>
                </a:solidFill>
                <a:uFillTx/>
                <a:latin typeface="Maiandra GD"/>
                <a:hlinkClick r:id="rId1"/>
              </a:rPr>
              <a:t>fête</a:t>
            </a:r>
            <a:r>
              <a:rPr b="0" lang="fr-FR" sz="2300" spc="-1" strike="noStrike">
                <a:solidFill>
                  <a:srgbClr val="ffffff"/>
                </a:solidFill>
                <a:latin typeface="Maiandra GD"/>
              </a:rPr>
              <a:t> d'origine </a:t>
            </a:r>
            <a:r>
              <a:rPr b="0" lang="fr-FR" sz="2300" spc="-1" strike="noStrike" u="sng">
                <a:solidFill>
                  <a:srgbClr val="999900"/>
                </a:solidFill>
                <a:uFillTx/>
                <a:latin typeface="Maiandra GD"/>
                <a:hlinkClick r:id="rId2"/>
              </a:rPr>
              <a:t>catholique</a:t>
            </a:r>
            <a:r>
              <a:rPr b="0" lang="fr-FR" sz="2300" spc="-1" strike="noStrike">
                <a:solidFill>
                  <a:srgbClr val="ffffff"/>
                </a:solidFill>
                <a:latin typeface="Maiandra GD"/>
              </a:rPr>
              <a:t> qui marque, en apothéose, la fin de la </a:t>
            </a:r>
            <a:r>
              <a:rPr b="1" lang="fr-FR" sz="2300" spc="-1" strike="noStrike">
                <a:solidFill>
                  <a:srgbClr val="ffffff"/>
                </a:solidFill>
                <a:latin typeface="Maiandra GD"/>
              </a:rPr>
              <a:t>semaine des sept jours gras</a:t>
            </a:r>
            <a:r>
              <a:rPr b="0" lang="fr-FR" sz="2300" spc="-1" strike="noStrike">
                <a:solidFill>
                  <a:srgbClr val="ffffff"/>
                </a:solidFill>
                <a:latin typeface="Maiandra GD"/>
              </a:rPr>
              <a:t> autrefois appelés </a:t>
            </a:r>
            <a:r>
              <a:rPr b="1" lang="fr-FR" sz="2300" spc="-1" strike="noStrike">
                <a:solidFill>
                  <a:srgbClr val="ffffff"/>
                </a:solidFill>
                <a:latin typeface="Maiandra GD"/>
              </a:rPr>
              <a:t>jours charnels</a:t>
            </a:r>
            <a:r>
              <a:rPr b="0" lang="fr-FR" sz="2300" spc="-1" strike="noStrike">
                <a:solidFill>
                  <a:srgbClr val="ffffff"/>
                </a:solidFill>
                <a:latin typeface="Maiandra GD"/>
              </a:rPr>
              <a:t>. Les dates actuelles de cette fête sont les mardis 8 février en 2005, 28 février en 2006 et 20 février en 2007.</a:t>
            </a:r>
            <a:endParaRPr b="0" lang="en-US" sz="2300" spc="-1" strike="noStrike">
              <a:solidFill>
                <a:srgbClr val="ffffff"/>
              </a:solidFill>
              <a:latin typeface="Arial"/>
            </a:endParaRPr>
          </a:p>
        </p:txBody>
      </p:sp>
      <p:pic>
        <p:nvPicPr>
          <p:cNvPr id="110" name="" descr=""/>
          <p:cNvPicPr/>
          <p:nvPr/>
        </p:nvPicPr>
        <p:blipFill>
          <a:blip r:embed="rId3"/>
          <a:stretch/>
        </p:blipFill>
        <p:spPr>
          <a:xfrm>
            <a:off x="5791320" y="1828800"/>
            <a:ext cx="1752480" cy="1752480"/>
          </a:xfrm>
          <a:prstGeom prst="rect">
            <a:avLst/>
          </a:prstGeom>
          <a:ln w="0">
            <a:noFill/>
          </a:ln>
        </p:spPr>
      </p:pic>
      <p:pic>
        <p:nvPicPr>
          <p:cNvPr id="111" name="" descr=""/>
          <p:cNvPicPr/>
          <p:nvPr/>
        </p:nvPicPr>
        <p:blipFill>
          <a:blip r:embed="rId4"/>
          <a:stretch/>
        </p:blipFill>
        <p:spPr>
          <a:xfrm>
            <a:off x="6095880" y="3657600"/>
            <a:ext cx="136692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Maiandra GD"/>
              </a:rPr>
              <a:t>Pâques</a:t>
            </a:r>
            <a:endParaRPr b="0" lang="en-US" sz="4400" spc="-1" strike="noStrike">
              <a:solidFill>
                <a:srgbClr val="ffffff"/>
              </a:solidFill>
              <a:latin typeface="Times New Roman"/>
            </a:endParaRPr>
          </a:p>
        </p:txBody>
      </p:sp>
      <p:sp>
        <p:nvSpPr>
          <p:cNvPr id="113"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3000"/>
          </a:bodyPr>
          <a:p>
            <a:pPr marL="318960" indent="-31896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ffffff"/>
                </a:solidFill>
                <a:latin typeface="Maiandra GD"/>
              </a:rPr>
              <a:t>Pâques est une fête mobile qui se fête entre le 22 mars et le 25 avril. C'est une fête religieuse qui commémore le passage de la Mer Rouge pour la religion juive et la résurrection de Jésus pour la religion chrétienne</a:t>
            </a:r>
            <a:br>
              <a:rPr sz="2300"/>
            </a:br>
            <a:r>
              <a:rPr b="0" lang="it-IT" sz="2300" spc="-1" strike="noStrike">
                <a:solidFill>
                  <a:srgbClr val="ffffff"/>
                </a:solidFill>
                <a:latin typeface="Maiandra GD"/>
              </a:rPr>
              <a:t>C'est aussi une fête païenne qui annonce l'éveil du printemps.</a:t>
            </a:r>
            <a:endParaRPr b="0" lang="en-US" sz="2300" spc="-1" strike="noStrike">
              <a:solidFill>
                <a:srgbClr val="ffffff"/>
              </a:solidFill>
              <a:latin typeface="Arial"/>
            </a:endParaRPr>
          </a:p>
        </p:txBody>
      </p:sp>
      <p:pic>
        <p:nvPicPr>
          <p:cNvPr id="114" name="" descr=""/>
          <p:cNvPicPr/>
          <p:nvPr/>
        </p:nvPicPr>
        <p:blipFill>
          <a:blip r:embed="rId1"/>
          <a:stretch/>
        </p:blipFill>
        <p:spPr>
          <a:xfrm>
            <a:off x="5943600" y="1905120"/>
            <a:ext cx="1400040" cy="1709640"/>
          </a:xfrm>
          <a:prstGeom prst="rect">
            <a:avLst/>
          </a:prstGeom>
          <a:ln w="0">
            <a:noFill/>
          </a:ln>
        </p:spPr>
      </p:pic>
      <p:pic>
        <p:nvPicPr>
          <p:cNvPr id="115" name="" descr=""/>
          <p:cNvPicPr/>
          <p:nvPr/>
        </p:nvPicPr>
        <p:blipFill>
          <a:blip r:embed="rId2"/>
          <a:stretch/>
        </p:blipFill>
        <p:spPr>
          <a:xfrm>
            <a:off x="5410080" y="3886200"/>
            <a:ext cx="2438640" cy="18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e poisson d'avril</a:t>
            </a:r>
            <a:endParaRPr b="0" lang="en-US" sz="4400" spc="-1" strike="noStrike">
              <a:solidFill>
                <a:srgbClr val="ffffff"/>
              </a:solidFill>
              <a:latin typeface="Times New Roman"/>
            </a:endParaRPr>
          </a:p>
        </p:txBody>
      </p:sp>
      <p:sp>
        <p:nvSpPr>
          <p:cNvPr id="117"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9000"/>
          </a:bodyPr>
          <a:p>
            <a:pPr marL="339480" indent="-3394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e </a:t>
            </a:r>
            <a:r>
              <a:rPr b="1" lang="fr-FR" sz="2300" spc="-1" strike="noStrike">
                <a:solidFill>
                  <a:srgbClr val="ffffff"/>
                </a:solidFill>
                <a:latin typeface="Maiandra GD"/>
              </a:rPr>
              <a:t>poisson d'avril</a:t>
            </a:r>
            <a:r>
              <a:rPr b="0" lang="fr-FR" sz="2300" spc="-1" strike="noStrike">
                <a:solidFill>
                  <a:srgbClr val="ffffff"/>
                </a:solidFill>
                <a:latin typeface="Maiandra GD"/>
              </a:rPr>
              <a:t> est une plaisanterie, voire un </a:t>
            </a:r>
            <a:r>
              <a:rPr b="0" lang="fr-FR" sz="2300" spc="-1" strike="noStrike" u="sng">
                <a:solidFill>
                  <a:srgbClr val="999900"/>
                </a:solidFill>
                <a:uFillTx/>
                <a:latin typeface="Maiandra GD"/>
                <a:hlinkClick r:id="rId1"/>
              </a:rPr>
              <a:t>canular</a:t>
            </a:r>
            <a:r>
              <a:rPr b="0" lang="fr-FR" sz="2300" spc="-1" strike="noStrike">
                <a:solidFill>
                  <a:srgbClr val="ffffff"/>
                </a:solidFill>
                <a:latin typeface="Maiandra GD"/>
              </a:rPr>
              <a:t>, que l'on fait le </a:t>
            </a:r>
            <a:r>
              <a:rPr b="0" lang="fr-FR" sz="2300" spc="-1" strike="noStrike" u="sng">
                <a:solidFill>
                  <a:srgbClr val="999900"/>
                </a:solidFill>
                <a:uFillTx/>
                <a:latin typeface="Maiandra GD"/>
                <a:hlinkClick r:id="rId2"/>
              </a:rPr>
              <a:t>1er avril</a:t>
            </a:r>
            <a:r>
              <a:rPr b="0" lang="fr-FR" sz="2300" spc="-1" strike="noStrike">
                <a:solidFill>
                  <a:srgbClr val="ffffff"/>
                </a:solidFill>
                <a:latin typeface="Maiandra GD"/>
              </a:rPr>
              <a:t> de chaque année à ses connaissances ou à ses amis. Il est aussi de coutume de faire des canulars dans la presse, aussi bien écrite, radio- et télédiffusée.</a:t>
            </a:r>
            <a:endParaRPr b="0" lang="en-US" sz="2300" spc="-1" strike="noStrike">
              <a:solidFill>
                <a:srgbClr val="ffffff"/>
              </a:solidFill>
              <a:latin typeface="Arial"/>
            </a:endParaRPr>
          </a:p>
        </p:txBody>
      </p:sp>
      <p:pic>
        <p:nvPicPr>
          <p:cNvPr id="118" name="" descr=""/>
          <p:cNvPicPr/>
          <p:nvPr/>
        </p:nvPicPr>
        <p:blipFill>
          <a:blip r:embed="rId3"/>
          <a:stretch/>
        </p:blipFill>
        <p:spPr>
          <a:xfrm>
            <a:off x="1212840" y="2048040"/>
            <a:ext cx="3322800" cy="298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du Travail</a:t>
            </a:r>
            <a:br>
              <a:rPr sz="4000"/>
            </a:br>
            <a:endParaRPr b="0" lang="en-US" sz="4000" spc="-1" strike="noStrike">
              <a:solidFill>
                <a:srgbClr val="ffffff"/>
              </a:solidFill>
              <a:latin typeface="Times New Roman"/>
            </a:endParaRPr>
          </a:p>
        </p:txBody>
      </p:sp>
      <p:sp>
        <p:nvSpPr>
          <p:cNvPr id="120"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2000"/>
          </a:bodyPr>
          <a:p>
            <a:pPr marL="315360" indent="-31536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a </a:t>
            </a:r>
            <a:r>
              <a:rPr b="1" lang="fr-FR" sz="2300" spc="-1" strike="noStrike">
                <a:solidFill>
                  <a:srgbClr val="ffffff"/>
                </a:solidFill>
                <a:latin typeface="Maiandra GD"/>
              </a:rPr>
              <a:t>fête du Travail</a:t>
            </a:r>
            <a:r>
              <a:rPr b="0" lang="fr-FR" sz="2300" spc="-1" strike="noStrike">
                <a:solidFill>
                  <a:srgbClr val="ffffff"/>
                </a:solidFill>
                <a:latin typeface="Maiandra GD"/>
              </a:rPr>
              <a:t> (ou </a:t>
            </a:r>
            <a:r>
              <a:rPr b="1" lang="fr-FR" sz="2300" spc="-1" strike="noStrike">
                <a:solidFill>
                  <a:srgbClr val="ffffff"/>
                </a:solidFill>
                <a:latin typeface="Maiandra GD"/>
              </a:rPr>
              <a:t>fête des Travailleurs</a:t>
            </a:r>
            <a:r>
              <a:rPr b="0" lang="fr-FR" sz="2300" spc="-1" strike="noStrike">
                <a:solidFill>
                  <a:srgbClr val="ffffff"/>
                </a:solidFill>
                <a:latin typeface="Maiandra GD"/>
              </a:rPr>
              <a:t>) est célébrée dans de nombreux pays du monde, le </a:t>
            </a:r>
            <a:r>
              <a:rPr b="0" lang="fr-FR" sz="2300" spc="-1" strike="noStrike" u="sng">
                <a:solidFill>
                  <a:srgbClr val="999900"/>
                </a:solidFill>
                <a:uFillTx/>
                <a:latin typeface="Maiandra GD"/>
                <a:hlinkClick r:id="rId1"/>
              </a:rPr>
              <a:t>1er mai</a:t>
            </a:r>
            <a:r>
              <a:rPr b="0" lang="fr-FR" sz="2300" spc="-1" strike="noStrike">
                <a:solidFill>
                  <a:srgbClr val="ffffff"/>
                </a:solidFill>
                <a:latin typeface="Maiandra GD"/>
              </a:rPr>
              <a:t>. C'est l'occasion d'importantes manifestations du </a:t>
            </a:r>
            <a:r>
              <a:rPr b="0" lang="fr-FR" sz="2300" spc="-1" strike="noStrike" u="sng">
                <a:solidFill>
                  <a:srgbClr val="999900"/>
                </a:solidFill>
                <a:uFillTx/>
                <a:latin typeface="Maiandra GD"/>
                <a:hlinkClick r:id="rId2"/>
              </a:rPr>
              <a:t>mouvement ouvrier</a:t>
            </a:r>
            <a:r>
              <a:rPr b="0" lang="fr-FR" sz="2300" spc="-1" strike="noStrike">
                <a:solidFill>
                  <a:srgbClr val="ffffff"/>
                </a:solidFill>
                <a:latin typeface="Maiandra GD"/>
              </a:rPr>
              <a:t>. Dans les pays dits « </a:t>
            </a:r>
            <a:r>
              <a:rPr b="0" lang="fr-FR" sz="2300" spc="-1" strike="noStrike" u="sng">
                <a:solidFill>
                  <a:srgbClr val="999900"/>
                </a:solidFill>
                <a:uFillTx/>
                <a:latin typeface="Maiandra GD"/>
                <a:hlinkClick r:id="rId3"/>
              </a:rPr>
              <a:t>socialistes</a:t>
            </a:r>
            <a:r>
              <a:rPr b="0" lang="fr-FR" sz="2300" spc="-1" strike="noStrike">
                <a:solidFill>
                  <a:srgbClr val="ffffff"/>
                </a:solidFill>
                <a:latin typeface="Maiandra GD"/>
              </a:rPr>
              <a:t> » le 1er mai est (ou était) fêté avec beaucoup d'éclat.</a:t>
            </a:r>
            <a:endParaRPr b="0" lang="en-US" sz="2300" spc="-1" strike="noStrike">
              <a:solidFill>
                <a:srgbClr val="ffffff"/>
              </a:solidFill>
              <a:latin typeface="Arial"/>
            </a:endParaRPr>
          </a:p>
        </p:txBody>
      </p:sp>
      <p:pic>
        <p:nvPicPr>
          <p:cNvPr id="121" name="" descr=""/>
          <p:cNvPicPr/>
          <p:nvPr/>
        </p:nvPicPr>
        <p:blipFill>
          <a:blip r:embed="rId4"/>
          <a:stretch/>
        </p:blipFill>
        <p:spPr>
          <a:xfrm>
            <a:off x="1523880" y="1981080"/>
            <a:ext cx="1947960" cy="1559160"/>
          </a:xfrm>
          <a:prstGeom prst="rect">
            <a:avLst/>
          </a:prstGeom>
          <a:ln w="0">
            <a:noFill/>
          </a:ln>
        </p:spPr>
      </p:pic>
      <p:pic>
        <p:nvPicPr>
          <p:cNvPr id="122" name="" descr=""/>
          <p:cNvPicPr/>
          <p:nvPr/>
        </p:nvPicPr>
        <p:blipFill>
          <a:blip r:embed="rId5"/>
          <a:stretch/>
        </p:blipFill>
        <p:spPr>
          <a:xfrm>
            <a:off x="1295280" y="3733920"/>
            <a:ext cx="2514600" cy="187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4:08:41Z</dcterms:created>
  <dc:creator>Dale</dc:creator>
  <dc:description/>
  <dc:language>en-US</dc:language>
  <cp:lastModifiedBy>Toni Theisen</cp:lastModifiedBy>
  <dcterms:modified xsi:type="dcterms:W3CDTF">2009-03-16T09:33:39Z</dcterms:modified>
  <cp:revision>6</cp:revision>
  <dc:subject/>
  <dc:title>Le Jour de L’ an</dc:title>
</cp:coreProperties>
</file>